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E30B-3CAA-4D94-A5A5-65E0DF4DA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01C1-DC6F-4832-B65A-1CA1A0CA3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EAFA-ECD2-4121-91C3-7050C3996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B2A9-AB8D-4ABE-82D7-94414B297B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14A8-5248-482B-B362-22A4DFDDB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6724-8E6D-4FAD-8DAF-80896F125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F431-57F2-497B-AA83-D45B711A3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5BCF-6421-4291-BB6C-071DD0CAB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B5F2-D3BE-4345-B978-5F7817A35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EAC7-EA80-402F-AB97-E274136F8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FD67-D457-49EC-8626-9670867B7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B7CD-AE6C-4230-B643-E45B4803E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6BD7-5271-494C-AACE-EE32CA08E6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71D2-98DA-4B38-BDD1-05ECF7A407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The Journey Beg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2362320"/>
            <a:ext cx="78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Excerpt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Give Effective Feedback to your Stude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usan Brookh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ptional Home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 know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xamples of generalization and justification in stude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crete model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nections between patterning and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8943-8847-4DF9-AA38-C01A5068BB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C93C-6704-4079-A917-E1C23C84D3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7725-FB22-4911-9B0C-4331A31AAA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703D-966F-4793-A5DC-ED82F7C63F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0880" y="10666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 Who are We?  ~ 1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stickers on chart paper to create bar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al Glyph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ions on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74320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666880"/>
            <a:ext cx="5181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rses you have experience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ne or two courses your intereste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xperienced AND inter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3526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Personal Goals ~ 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the Ques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Why did you come to Math Camppp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lustrate your groups’ responses on chart paper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4F8C-DFBE-42FF-8254-FDCFB316C6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E80A-9C1C-4248-AB8C-E5A062FAC5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iscuss examples of Algebraic Thinking in student samples from the “Cube Sticker Probl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 to Generalization Strategies and Justification Framework from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gether with another pair.  Share and compare your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13A8-6545-4EAF-9DE3-C9035542AF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C00E-2BF0-4D1F-8D3E-79E08C591C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876560" y="1523880"/>
            <a:ext cx="3505320" cy="1066680"/>
            <a:chOff x="4876560" y="1523880"/>
            <a:chExt cx="3505320" cy="1066680"/>
          </a:xfrm>
        </p:grpSpPr>
        <p:sp>
          <p:nvSpPr>
            <p:cNvPr id="76" name=""/>
            <p:cNvSpPr/>
            <p:nvPr/>
          </p:nvSpPr>
          <p:spPr>
            <a:xfrm>
              <a:off x="4952880" y="1523880"/>
              <a:ext cx="3429000" cy="838080"/>
            </a:xfrm>
            <a:prstGeom prst="cloudCallout">
              <a:avLst>
                <a:gd name="adj1" fmla="val -23379"/>
                <a:gd name="adj2" fmla="val 429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876560" y="2286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10080" y="17524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Work with a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Viewing the Area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ly, work through the hand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Model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Quadratic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ctions with Square Til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your insights, ideas, and questions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A5BE-D403-487F-A585-F2D6B9E32E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2F8E-17E6-4CB6-A108-1A24900D13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380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4000"/>
          </a:bodyPr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Organizer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 organizer to help you record and reflect on your personal  learning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erspective Pass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-book to record interesting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at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 organizer to illustrate your travels and the pathways between you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1F65-4BE0-4986-8605-9A4C7FF4F1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0B5A-7EEB-495F-9DEC-4436140482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7696080" y="3733920"/>
            <a:ext cx="1227240" cy="114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6705360" y="3200040"/>
            <a:ext cx="838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174D-BA1E-45A6-BFE6-0525C31DE4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4176-9194-421D-986F-3A78B2AF40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a question you have from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wondering about….”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I’m confused about…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would like to learn more about…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it on a sticky note, and attach it to your gly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D03B-B9CB-45B4-A910-644AE401F7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54BB-5C85-434B-87DF-2EC17B827E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10T02:30:37Z</dcterms:modified>
  <cp:revision>28</cp:revision>
  <dc:subject/>
  <dc:title>&lt;Title&gt;</dc:title>
</cp:coreProperties>
</file>